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FE0FB-9D8D-4974-ADB0-85220F5E7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167DA-3372-4830-B44F-29FA6035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280AD-BD93-4D4E-93EC-10F0206A0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D2B4B-B01C-47A2-AD08-9D7F00A6C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8AB45-1881-47BC-A0C0-8635E097B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60DA1-566D-4504-B5AF-E864D3B6D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ACFBC-AF31-4436-B616-2E870C88A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B0A14-795A-4D69-B86E-F502F4FCF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6EB36-C750-4486-A62C-3AE584430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27743-69CA-44C4-BF10-6B8D0CA12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C9342-9022-49DC-834A-7A716CC0D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B30AC-A820-4EE1-8FDE-C1335E02E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4CC86-084F-4F07-A926-F47B231BE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BEC26-CE02-4A4E-970B-F9FC0CB48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245EE-D62B-445C-B52D-63127D273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42B7F-2C00-47F3-AFA1-E4C26E45F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80303-CE3A-484C-BD36-FDBB2778F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2A5076-DBDF-459C-8DCC-2344151F21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D5412-8DBD-40F4-A4D8-0A74A0697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CDCA56-036A-4D12-89AB-AD0700805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8CFCDA-8835-44FD-88B0-1E7B12B9A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10395-78BE-4CEC-832B-96A1E9FA39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5864F-4E55-473B-A755-D98B2B48F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4CCBF-0DE5-4D36-A9A8-AA253D79A3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4BC918-BA28-4E70-ABEC-BB7D3D941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CB4E4-47CA-4C66-AA4C-09AB97D04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D6177-E58C-4D38-A5DA-C91044482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F85032-3974-4868-BCB8-6A155F480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4F5137-F784-4228-B97A-B87AF60C66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8F852C-2B2E-4F92-80CD-AE5B20E7EB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A91CF-B2B6-4B92-8739-1CBB05984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D86B1-0D89-4243-A92A-73EC04A4B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BDADB-4935-49B5-A81E-C8E7CBEE2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A67DA-E363-4CA9-B8C1-9E9156224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006FB-3DA6-4161-9B77-D1686E19A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1D772-D784-4F26-A22E-86CBCE037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Triângulo retângulo 13"/>
          <p:cNvGrpSpPr/>
          <p:nvPr/>
        </p:nvGrpSpPr>
        <p:grpSpPr>
          <a:xfrm>
            <a:off x="-12600" y="5784840"/>
            <a:ext cx="3414600" cy="1092240"/>
            <a:chOff x="-12600" y="5784840"/>
            <a:chExt cx="3414600" cy="1092240"/>
          </a:xfrm>
        </p:grpSpPr>
        <p:pic>
          <p:nvPicPr>
            <p:cNvPr id="3" name="Triângulo retângulo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 name="Conector reto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AEA0-AB77-4481-88A1-B8750B3AB307}"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70FA-998F-47DD-B947-E1E609ADB5BA}"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A535A-158B-4D87-95F4-D264728018B9}"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360"/>
            <a:ext cx="8351640" cy="6264360"/>
          </a:xfrm>
          <a:prstGeom prst="rect">
            <a:avLst/>
          </a:prstGeom>
          <a:noFill/>
          <a:ln w="0">
            <a:noFill/>
          </a:ln>
        </p:spPr>
        <p:txBody>
          <a:bodyPr lIns="90000" rIns="90000" tIns="46800" bIns="46800"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Lucida Sans Unicode"/>
              </a:rPr>
              <a:t>Tecnologia e Formação do professor de segunda língua</a:t>
            </a:r>
            <a:endParaRPr b="0" lang="en-US" sz="31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Lucida Sans Unicode"/>
              </a:rPr>
              <a:t>Hayo Reinders</a:t>
            </a:r>
            <a:endParaRPr b="0" lang="en-US" sz="21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Jaqueline Moraes da Silva</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studos Lingü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000" y="-360"/>
            <a:ext cx="8351640" cy="6264360"/>
          </a:xfrm>
          <a:prstGeom prst="rect">
            <a:avLst/>
          </a:prstGeom>
          <a:noFill/>
          <a:ln w="0">
            <a:noFill/>
          </a:ln>
        </p:spPr>
        <p:txBody>
          <a:bodyPr lIns="90000" rIns="90000" tIns="46800" bIns="46800"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Lucida Sans Unicode"/>
              </a:rPr>
              <a:t>O âmbito da aprendizagem de língua assistida por computador na formação de professores </a:t>
            </a: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Lucida Sans Unicode"/>
              </a:rPr>
              <a:t>( The Scope of CALL education)</a:t>
            </a:r>
            <a:endParaRPr b="0" lang="en-US" sz="26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Philip Hubbard and Mike Levy</a:t>
            </a:r>
            <a:endParaRPr b="0" lang="en-US" sz="1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Jaqueline Moraes da Silva</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rograma de Pós-Graduação: Estudos Lingüísticos</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ível: Mestrado</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IBILCE/UNESP</a:t>
            </a:r>
            <a:endParaRPr b="0" lang="en-US" sz="1800" spc="-1" strike="noStrike">
              <a:solidFill>
                <a:srgbClr val="ffffff"/>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000000"/>
                </a:solidFill>
                <a:latin typeface="Lucida Sans Unicode"/>
              </a:rPr>
              <a:t>The Scope of CALL education</a:t>
            </a:r>
            <a:endParaRPr b="1" lang="en-US" sz="3300" spc="-1" strike="noStrike">
              <a:solidFill>
                <a:srgbClr val="def5fa"/>
              </a:solidFill>
              <a:latin typeface="Lucida Sans Unicode"/>
            </a:endParaRPr>
          </a:p>
        </p:txBody>
      </p:sp>
      <p:sp>
        <p:nvSpPr>
          <p:cNvPr id="1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Lucida Sans Unicode"/>
              </a:rPr>
              <a:t>Objetivo geral:</a:t>
            </a:r>
            <a:endParaRPr b="0" lang="en-US" sz="21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presentar uma visão geral da área da aprendizagem de língua assistida por computador tendo como foco a formação de professores ( CALL education);</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Objetivo específico:</a:t>
            </a: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Discutir a elaboração de materiais de treinamentos para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bordar a literatura especializada da área de aprendizagem de línguas mediada por computador, tendo como foco a formação de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bordar estruturas que relacionam a prática da aprendizagem de línguas mediada por computador a contextos particula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Refletir sobre o aumento do uso de técnicas colaborativas de aprendizagem online.</a:t>
            </a:r>
            <a:endParaRPr b="0" lang="en-US" sz="15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Lucida Sans Unicode"/>
              </a:rPr>
              <a:t>The Scope of CALL education</a:t>
            </a:r>
            <a:endParaRPr b="1" lang="en-US" sz="3700" spc="-1" strike="noStrike">
              <a:solidFill>
                <a:srgbClr val="def5fa"/>
              </a:solidFill>
              <a:latin typeface="Lucida Sans Unicode"/>
            </a:endParaRPr>
          </a:p>
        </p:txBody>
      </p:sp>
      <p:sp>
        <p:nvSpPr>
          <p:cNvPr id="1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 a crescente influência da tecnologia na área de ensino e aprendizagem de línguas, houve um desenvolvimento paralelo de cursos com o objetivo de ensinar os professores a lidarem com o uso da tecnologia;</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 o passar dos anos foram surgindo um número de livros e artigos que abordavam aspectos referentes à aprendizagem de língua assistida por computador (CALL), como: metodologia, materiais e técnicas;</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pesar do foco do texto ser na formação de professores, é importante ressaltar que a abordagem de aprendizagem de língua assistida por computador não envolve apenas os professores das salas de aula, mas também outros que de alguma forma estão envolvidos no processo de aprendizagem de língua assistida por computador;</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professores envolvidos no processo de ensino e aprendizagem de língua assistido por computador são distinguidos e descritos no textos em função dos papéis que assumem nos contextos em que estão inseridos;</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Lucida Sans Unicode"/>
              </a:rPr>
              <a:t>The Scope of CALL education</a:t>
            </a:r>
            <a:endParaRPr b="1" lang="en-US" sz="37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ssa abordagem que faz referência aos papéis desempenhados é inspirada  em concepções da área da psicologia social, conhecida como </a:t>
            </a:r>
            <a:r>
              <a:rPr b="0" i="1" lang="pt-BR" sz="1700" spc="-1" strike="noStrike">
                <a:solidFill>
                  <a:srgbClr val="000000"/>
                </a:solidFill>
                <a:latin typeface="Lucida Sans Unicode"/>
              </a:rPr>
              <a:t>role theory</a:t>
            </a:r>
            <a:r>
              <a:rPr b="0" lang="pt-BR" sz="1700" spc="-1" strike="noStrike">
                <a:solidFill>
                  <a:srgbClr val="000000"/>
                </a:solidFill>
                <a:latin typeface="Lucida Sans Unicode"/>
              </a:rPr>
              <a:t>, ( Biddle, 1986);</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literatura recente referente à educação de línguas tem usado com freqüência a concepção de papéis de professores para caracterizá-los, como : professor facilitador ou professor como um guia;</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dois primeiros tipos de papéis descritos no texto são: o papel funcional e o papel institucional. Papéis funcionais: o professor que pratica, que desenvolve, o pesquisador e o treinador. Papéis institucionais: o professor da sala de aula, o especialista ( CALL), e o profissional (CALL);</a:t>
            </a:r>
            <a:endParaRPr b="0" lang="en-US" sz="17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Há quatro fortes tendências:</a:t>
            </a:r>
            <a:endParaRPr b="0" lang="en-US" sz="1900" spc="-1" strike="noStrike">
              <a:solidFill>
                <a:srgbClr val="ffffff"/>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1) A produção de materiais e treinamentos orientados aos professores de salas de aula;</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2)A produção de literatura da área da educação de aprendizagem de língua assistida por computador, voltada para o nível da prática e para o nível da pesquisa;</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3) A elaboração de estruturas que definem a prática da CALL, derivadas de princípios de abordagens de aprendizagem de línguas;</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4) O uso de técnicas colaborativas de aprendizagem.</a:t>
            </a: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primeira tendência tem sido evidenciada na produção de textos e livros impressos. Há também arquivos online como o oferecido pelo website ICT4LT. Este site oferece 16 módulos de treinamentos direcionados a professores em serviço;</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segunda tendência é refletida na produção crescente de artigos referentes à pesquisa e à prática, direcionados à professores educadore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terceira tendência tem como objetivo caracterizar a área de aprendizagem de línguas assistida por computador em termos de  abordagens de aprendizagem de língua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quarta tendência tem como objetivo ajudar os professores a aplicarem com sucesso suas habilidades, ideias e o que aprendem em livros, artigos, nos contextos das salas de aulas. O texto ressalta que a aprendizagem colaborativa e as comunidades de prática facilitam esse processo.</a:t>
            </a:r>
            <a:endParaRPr b="0" lang="en-US" sz="1700" spc="-1" strike="noStrike">
              <a:solidFill>
                <a:srgbClr val="ffffff"/>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s muitas abordagens tem como objetivo ajudar os professores a lidarem com a tecnologia nos variados contextos e condições. Os professores, na área de educação de aprendizagem de línguas assistida por computador devem estar preparados para lidarem com o inesperado nas salas de aul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professores devem estar preparados para enfrentar as dificuldades e as situações imprevisíveis. Por exemplo, o tempo da duração das aulas, problemas no cronograma de um curso e a falta de recursos disponíveis podem ser umas das situações  que os professores podem enfrentar durante as aula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autores aproveitam para ressaltar que têm como objetivo apresentar uma abordagem descritiva e não prescritiva. Com este intuito, eles acreditam ser possível caracterizar as várias visões em torno da aprendizagem de língua e da CALL;</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Arcabouço teórico de aprendizagem de língua mediada por computador com foco na formação de professores</a:t>
            </a:r>
            <a:r>
              <a:rPr b="1" lang="en-US" sz="2500" spc="-1" strike="noStrike">
                <a:solidFill>
                  <a:srgbClr val="def5fa"/>
                </a:solidFill>
                <a:latin typeface="Lucida Sans Unicode"/>
              </a:rPr>
              <a:t> </a:t>
            </a:r>
            <a:endParaRPr b="1" lang="en-US" sz="2500" spc="-1" strike="noStrike">
              <a:solidFill>
                <a:srgbClr val="def5fa"/>
              </a:solidFill>
              <a:latin typeface="Lucida Sans Unicode"/>
            </a:endParaRPr>
          </a:p>
        </p:txBody>
      </p:sp>
      <p:sp>
        <p:nvSpPr>
          <p:cNvPr id="16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Um arcabouço teórico de CALL pode ser descrito em função dos papéis assumidos pelos envolvidos no processo;</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autores ressaltam que a concepção geral de CALL que adotam não está limitada aos contextos de salas de aula. A abordagem também engloba outros contextos como: comunidade de prática, cursos, mediação, contextos autodidáticos e entre outros.</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Há dois pares de elementos importantes para  entender o conteúdo da área de CALL: </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 primeiro envolve a distinção clássica entre conhecimento e habilidade;</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 segundo envolve a relação entre conhecimentos e habilidades técnicas e conhecimentos e habilidades pedagógicas;</a:t>
            </a:r>
            <a:endParaRPr b="0" lang="en-US" sz="17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Lucida Sans Unicode"/>
              </a:rPr>
              <a:t>Papéis funcionais</a:t>
            </a:r>
            <a:endParaRPr b="1" lang="en-US" sz="3700" spc="-1" strike="noStrike">
              <a:solidFill>
                <a:srgbClr val="def5fa"/>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apéis funcionais podem ser: pesquisador, treinador, alguém que desenvolve e alguém que pratica;</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rofessores que praticam (</a:t>
            </a:r>
            <a:r>
              <a:rPr b="0" i="1" lang="pt-BR" sz="1700" spc="-1" strike="noStrike">
                <a:solidFill>
                  <a:srgbClr val="000000"/>
                </a:solidFill>
                <a:latin typeface="Lucida Sans Unicode"/>
              </a:rPr>
              <a:t>practioners</a:t>
            </a:r>
            <a:r>
              <a:rPr b="0" lang="pt-BR" sz="1700" spc="-1" strike="noStrike">
                <a:solidFill>
                  <a:srgbClr val="000000"/>
                </a:solidFill>
                <a:latin typeface="Lucida Sans Unicode"/>
              </a:rPr>
              <a:t>) são aqueles que aplicam seus conhecimentos e habilidades diretamente na performance de seus papéis institucionais;</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rofessores que são responsáveis pelo desenvolvimento (</a:t>
            </a:r>
            <a:r>
              <a:rPr b="0" i="1" lang="pt-BR" sz="1700" spc="-1" strike="noStrike">
                <a:solidFill>
                  <a:srgbClr val="000000"/>
                </a:solidFill>
                <a:latin typeface="Lucida Sans Unicode"/>
              </a:rPr>
              <a:t>developers</a:t>
            </a:r>
            <a:r>
              <a:rPr b="0" lang="pt-BR" sz="1700" spc="-1" strike="noStrike">
                <a:solidFill>
                  <a:srgbClr val="000000"/>
                </a:solidFill>
                <a:latin typeface="Lucida Sans Unicode"/>
              </a:rPr>
              <a:t>) são aqueles que estão engajados em criar algo novo ou revisar e adaptar um trabalho existente;</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esquisadores são aqueles que se ocupam em descobrir novas informações relacionadas à área de CALL;</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treinadores (</a:t>
            </a:r>
            <a:r>
              <a:rPr b="0" i="1" lang="pt-BR" sz="1700" spc="-1" strike="noStrike">
                <a:solidFill>
                  <a:srgbClr val="000000"/>
                </a:solidFill>
                <a:latin typeface="Lucida Sans Unicode"/>
              </a:rPr>
              <a:t>trainers</a:t>
            </a:r>
            <a:r>
              <a:rPr b="0" lang="pt-BR" sz="1700" spc="-1" strike="noStrike">
                <a:solidFill>
                  <a:srgbClr val="000000"/>
                </a:solidFill>
                <a:latin typeface="Lucida Sans Unicode"/>
              </a:rPr>
              <a:t>) são aqueles que tem como objetivo construir outros tipos de conhecimentos e habilidades na área de CALL, não apenas relacionados ao âmbito da linguagem/língua;</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Como os papéis funcionais estão relacionados a ações, eles são mais dinâmicos que os papéis institucionais</a:t>
            </a:r>
            <a:r>
              <a:rPr b="0" lang="pt-BR" sz="1500" spc="-1" strike="noStrike">
                <a:solidFill>
                  <a:srgbClr val="000000"/>
                </a:solidFill>
                <a:latin typeface="Lucida Sans Unicode"/>
              </a:rPr>
              <a:t>.</a:t>
            </a:r>
            <a:endParaRPr b="0" lang="en-US" sz="15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ecnologia e Formação do professor de segunda língua</a:t>
            </a:r>
            <a:endParaRPr b="1" lang="en-US" sz="3200" spc="-1" strike="noStrike">
              <a:solidFill>
                <a:srgbClr val="def5fa"/>
              </a:solidFill>
              <a:latin typeface="Lucida Sans Unicode"/>
            </a:endParaRPr>
          </a:p>
        </p:txBody>
      </p:sp>
      <p:sp>
        <p:nvSpPr>
          <p:cNvPr id="1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bjetivos:</a:t>
            </a:r>
            <a:endParaRPr b="0" lang="en-US" sz="23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cutir o âmbito da parceria educação e tecnologia;</a:t>
            </a: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fletir sobre a implantação de tal parceria, com foco na formação de professores de língua;</a:t>
            </a: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ntender como a tecnologia está mudando a prática do professor.</a:t>
            </a:r>
            <a:endParaRPr b="0" lang="en-US" sz="21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Lucida Sans Unicode"/>
              </a:rPr>
              <a:t>Papéis institucionais</a:t>
            </a:r>
            <a:endParaRPr b="1" lang="en-US" sz="3700" spc="-1" strike="noStrike">
              <a:solidFill>
                <a:srgbClr val="def5fa"/>
              </a:solidFill>
              <a:latin typeface="Lucida Sans Unicode"/>
            </a:endParaRPr>
          </a:p>
        </p:txBody>
      </p:sp>
      <p:sp>
        <p:nvSpPr>
          <p:cNvPr id="1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Papéis institucionais são mais estáveis;</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São eles: os professores de sala de aula, incluindo os professores em serviço e os professores em pré-serviço, os especialistas em CALL e os profissionais em CALL;</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rofessores de sala de aula são aqueles que utilizam o computador para promover a aprendizagem dos alunos;</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especialista em CALL devem apresentar um conhecimento mais profundo e habilidades mais elaboradas de determinado aspecto da área de CALLL, do que  professor de sala de aula;</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rofissionais em CALL são aqueles que apresentam: 1) um conhecimento amplo da área como um todo; 2) um conhecimento profundo em algumas áreas; 3) um claro comprometimento com o desenvolvimento profissional na área de CALL;</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ares de papéis funcionais-institucionais são caracterizados em dois domínios: técnico e pedagógico, ambos apresentam o componente conhecimento e o componente habilidade;</a:t>
            </a: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1931400" y="542520"/>
            <a:ext cx="5281560" cy="5109120"/>
            <a:chOff x="1931400" y="542520"/>
            <a:chExt cx="5281560" cy="5109120"/>
          </a:xfrm>
        </p:grpSpPr>
        <p:sp>
          <p:nvSpPr>
            <p:cNvPr id="173" name="_s187398"/>
            <p:cNvSpPr/>
            <p:nvPr/>
          </p:nvSpPr>
          <p:spPr>
            <a:xfrm flipV="1">
              <a:off x="3691440" y="542160"/>
              <a:ext cx="1762200" cy="1702800"/>
            </a:xfrm>
            <a:custGeom>
              <a:avLst/>
              <a:gdLst>
                <a:gd name="textAreaLeft" fmla="*/ 632160 w 1762200"/>
                <a:gd name="textAreaRight" fmla="*/ 1130040 w 1762200"/>
                <a:gd name="textAreaTop" fmla="*/ 610920 h 1702800"/>
                <a:gd name="textAreaBottom" fmla="*/ 1091880 h 1702800"/>
              </a:gdLst>
              <a:ahLst/>
              <a:rect l="textAreaLeft" t="textAreaTop" r="textAreaRight" b="textAreaBottom"/>
              <a:pathLst>
                <a:path w="21600" h="21600">
                  <a:moveTo>
                    <a:pt x="0" y="0"/>
                  </a:moveTo>
                  <a:lnTo>
                    <a:pt x="21600" y="0"/>
                  </a:lnTo>
                  <a:lnTo>
                    <a:pt x="10800" y="21600"/>
                  </a:lnTo>
                  <a:lnTo>
                    <a:pt x="108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Profissionais</a:t>
              </a:r>
              <a:endParaRPr b="0" lang="en-US" sz="1400" spc="-1" strike="noStrike">
                <a:solidFill>
                  <a:srgbClr val="ffffff"/>
                </a:solidFill>
                <a:latin typeface="Arial"/>
              </a:endParaRPr>
            </a:p>
          </p:txBody>
        </p:sp>
        <p:sp>
          <p:nvSpPr>
            <p:cNvPr id="174" name="_s187399"/>
            <p:cNvSpPr/>
            <p:nvPr/>
          </p:nvSpPr>
          <p:spPr>
            <a:xfrm flipV="1">
              <a:off x="2812320" y="2244240"/>
              <a:ext cx="3520080" cy="1703160"/>
            </a:xfrm>
            <a:custGeom>
              <a:avLst/>
              <a:gdLst>
                <a:gd name="textAreaLeft" fmla="*/ 774000 w 3520080"/>
                <a:gd name="textAreaRight" fmla="*/ 2746080 w 3520080"/>
                <a:gd name="textAreaTop" fmla="*/ 374400 h 1703160"/>
                <a:gd name="textAreaBottom" fmla="*/ 1328760 h 1703160"/>
              </a:gdLst>
              <a:ahLst/>
              <a:rect l="textAreaLeft" t="textAreaTop" r="textAreaRight" b="textAreaBottom"/>
              <a:pathLst>
                <a:path w="21600" h="21600">
                  <a:moveTo>
                    <a:pt x="0" y="0"/>
                  </a:moveTo>
                  <a:lnTo>
                    <a:pt x="21600" y="0"/>
                  </a:lnTo>
                  <a:lnTo>
                    <a:pt x="16200" y="21600"/>
                  </a:lnTo>
                  <a:lnTo>
                    <a:pt x="54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da2bf"/>
                  </a:solidFill>
                  <a:uFillTx/>
                  <a:latin typeface="Arial Rounded MT Bold"/>
                </a:rPr>
                <a:t>Especialistas</a:t>
              </a:r>
              <a:endParaRPr b="0" lang="en-US" sz="1400" spc="-1" strike="noStrike">
                <a:solidFill>
                  <a:srgbClr val="ffffff"/>
                </a:solidFill>
                <a:latin typeface="Arial"/>
              </a:endParaRPr>
            </a:p>
          </p:txBody>
        </p:sp>
        <p:sp>
          <p:nvSpPr>
            <p:cNvPr id="175" name="_s187400"/>
            <p:cNvSpPr/>
            <p:nvPr/>
          </p:nvSpPr>
          <p:spPr>
            <a:xfrm flipV="1">
              <a:off x="1931400" y="3948840"/>
              <a:ext cx="5281560" cy="1702800"/>
            </a:xfrm>
            <a:custGeom>
              <a:avLst/>
              <a:gdLst>
                <a:gd name="textAreaLeft" fmla="*/ 916920 w 5281560"/>
                <a:gd name="textAreaRight" fmla="*/ 4364640 w 5281560"/>
                <a:gd name="textAreaTop" fmla="*/ 295560 h 1702800"/>
                <a:gd name="textAreaBottom" fmla="*/ 1407240 h 1702800"/>
              </a:gdLst>
              <a:ahLst/>
              <a:rect l="textAreaLeft" t="textAreaTop" r="textAreaRight" b="textAreaBottom"/>
              <a:pathLst>
                <a:path w="21600" h="21600">
                  <a:moveTo>
                    <a:pt x="0" y="0"/>
                  </a:moveTo>
                  <a:lnTo>
                    <a:pt x="21600" y="0"/>
                  </a:lnTo>
                  <a:lnTo>
                    <a:pt x="18000" y="21600"/>
                  </a:lnTo>
                  <a:lnTo>
                    <a:pt x="36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Professores das salas de aula</a:t>
              </a:r>
              <a:endParaRPr b="0" lang="en-US" sz="1400" spc="-1" strike="noStrike">
                <a:solidFill>
                  <a:srgbClr val="ffffff"/>
                </a:solidFill>
                <a:latin typeface="Arial"/>
              </a:endParaRPr>
            </a:p>
          </p:txBody>
        </p:sp>
      </p:grpSp>
      <p:sp>
        <p:nvSpPr>
          <p:cNvPr id="176" name=""/>
          <p:cNvSpPr/>
          <p:nvPr/>
        </p:nvSpPr>
        <p:spPr>
          <a:xfrm>
            <a:off x="3780000" y="2924280"/>
            <a:ext cx="15840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2da2bf"/>
                </a:solidFill>
                <a:uFillTx/>
                <a:latin typeface="Arial Rounded MT Bold"/>
              </a:rPr>
              <a:t>Especialistas</a:t>
            </a:r>
            <a:endParaRPr b="0" lang="en-US" sz="1900" spc="-1" strike="noStrike">
              <a:solidFill>
                <a:srgbClr val="ffffff"/>
              </a:solidFill>
              <a:latin typeface="Arial"/>
            </a:endParaRPr>
          </a:p>
        </p:txBody>
      </p:sp>
      <p:sp>
        <p:nvSpPr>
          <p:cNvPr id="177" name=""/>
          <p:cNvSpPr/>
          <p:nvPr/>
        </p:nvSpPr>
        <p:spPr>
          <a:xfrm>
            <a:off x="3564000" y="285264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Especialistas</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Direções e Discussões</a:t>
            </a:r>
            <a:endParaRPr b="1" lang="en-US" sz="3300" spc="-1" strike="noStrike">
              <a:solidFill>
                <a:srgbClr val="def5fa"/>
              </a:solidFill>
              <a:latin typeface="Lucida Sans Unicode"/>
            </a:endParaRPr>
          </a:p>
        </p:txBody>
      </p:sp>
      <p:sp>
        <p:nvSpPr>
          <p:cNvPr id="1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autores reconhecem que a abordagem que propõem não caracteriza todos os elementos necessários da área de educação de aprendizagem de língua assistida por computador;</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papéis assumidos pelos professores foram abordados separadamente, entretanto alguns podem ser integrado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 papel institucional do professor da sala de aula não foi muito explorado, uma vez que segundo os autores a aprendizagem de língua assistida por computador é apenas uma pequena parte do todo desenvolvido por esses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pesar de abordar a descrição dos papéis institucionais do professor em serviço e do professor em pré-serviço,  a abordagem não menciona o papel do aluno;</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 abordagem apresentada oferece direções para outros continuarem explorando, expandindo e refinando;</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 abordagem descritiva que adotaram é consistente e condiz com as filosofias manifestadas por eles em publicações anteri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Por meio da descrição dos papéis assumidos pelos professores na área de aprendizagem de língua assistida por computador, os autores acreditam terem apresentado o suficiente para se conhecer de maneira geral tal área .</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28400" y="-360"/>
            <a:ext cx="8351640" cy="6264360"/>
          </a:xfrm>
          <a:prstGeom prst="rect">
            <a:avLst/>
          </a:prstGeom>
          <a:noFill/>
          <a:ln w="0">
            <a:noFill/>
          </a:ln>
        </p:spPr>
        <p:txBody>
          <a:bodyPr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Lucida Sans Unicode"/>
              </a:rPr>
              <a:t>Formação do professor de línguas a distância</a:t>
            </a:r>
            <a:endParaRPr b="0" lang="en-US" sz="36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avid R. </a:t>
            </a:r>
            <a:r>
              <a:rPr b="0" lang="en-US" sz="2400" spc="-1" strike="noStrike">
                <a:solidFill>
                  <a:srgbClr val="000000"/>
                </a:solidFill>
                <a:latin typeface="Lucida Sans Unicode"/>
              </a:rPr>
              <a:t>David R. Hall e John S. Knox</a:t>
            </a: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Raphael Mende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m Estudos Lingu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760" y="571680"/>
            <a:ext cx="8229600" cy="4929120"/>
          </a:xfrm>
          <a:prstGeom prst="rect">
            <a:avLst/>
          </a:prstGeom>
          <a:noFill/>
          <a:ln w="0">
            <a:noFill/>
          </a:ln>
        </p:spPr>
        <p:txBody>
          <a:bodyPr anchor="t">
            <a:normAutofit fontScale="99000"/>
          </a:bodyPr>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Recentemente, tem-se desenvolvido uma forte relação entre educação a distância e formação do professor</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uitas das instituições que fornecem cursos a distância são instituições particulares que oferecem certificados em vez de títulos acadêmic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Variações do nome: </a:t>
            </a:r>
            <a:r>
              <a:rPr b="0" i="1" lang="pt-BR" sz="1800" spc="-1" strike="noStrike">
                <a:solidFill>
                  <a:srgbClr val="000000"/>
                </a:solidFill>
                <a:latin typeface="Lucida Sans Unicode"/>
              </a:rPr>
              <a:t>aprendizado online</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dividual</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dependente</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terativo</a:t>
            </a:r>
            <a:r>
              <a:rPr b="0" lang="pt-BR" sz="1800" spc="-1" strike="noStrike">
                <a:solidFill>
                  <a:srgbClr val="000000"/>
                </a:solidFill>
                <a:latin typeface="Lucida Sans Unicode"/>
              </a:rPr>
              <a:t>  etc. </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ood (1995: 19) descreve quatro características básicas do aprendizado a distânci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separação física entre professor e alun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influência ou controle de uma instituição educacional organizad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 envolvimento de “mei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comunicação dupla de alguma form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28760" y="1428480"/>
            <a:ext cx="8229600" cy="41432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Cada vez mais, os programas de ensino do professor de línguas em campus incluem o uso da comunicação mediada por computador (CMC) e outras tecnologias mais tradicionalmente associadas a programas a distância. Por outro lado, muitos programas a distância incluem o componente face-a-face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educação a distância é caracterizada pela desnecessidade ou necessidade mínima de comparecimento dos estudantes à instituição onde estão estudand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00040" y="1856880"/>
            <a:ext cx="8229600" cy="42865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literatura sobre LTED começou em meados da década de1990, com a expansão de vários programa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ão há uma revisão geral da pesquisa em LTED, e portanto, não há um quadro geral sobre o que se conhece da área. Além disso, muitos dos principais trabalhos sobre o ensino do professor de línguas não fornece discussões sobre aprendizado a distância e suas implicações para esse ensino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á poucos estudos publicados que examinam diretamente o ensino do professor de línguas a distânci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86"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Visão geral</a:t>
            </a:r>
            <a:endParaRPr b="0" lang="en-US" sz="3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28760" y="1000080"/>
            <a:ext cx="8229600" cy="4525920"/>
          </a:xfrm>
          <a:prstGeom prst="rect">
            <a:avLst/>
          </a:prstGeom>
          <a:noFill/>
          <a:ln w="0">
            <a:noFill/>
          </a:ln>
        </p:spPr>
        <p:txBody>
          <a:bodyPr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 geral, a literatura em LTED é dominada por estudos de caso da perspectiva do instrutor. Muitos deles acabam descrevendo determinado programa ou o processo de desenvolvimento ou ensino de um curso à distância. Há poucas avaliações rigorosas, e muitos estudos publicados com pouca reflexão crítica sobre a natureza dos materiais, a pedagogia, o aprendizado ou o currículo</a:t>
            </a: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ambém existem muitos estudos em LTED que não são estudos de caso da perspectiva do instrutor, e que em muitos casos problematizam assunções do senso comum de que a interação face a face é superior ao aprendizado a distância. Exploram questões como: os desafios logísticos enfrentados por alunos, professores e administradores, os papéis do professor e do aluno, bem como a natureza da comunicação, da pedagogia e da aprendizagem</a:t>
            </a: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28760" y="16430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TECNOLOGI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o LTED, as tecnologias de informação e comunicação (ICTs) significam que o conhecimento da comunidade discursiva (artigos de periódicos, livros e materiais de ensino) pode ser distribuído de forma mais barata e eficiente. Isso é útil em um campo em que os profissionais estão espalhados globalmente e ensinam ou estudam no exterior</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ICTs também fornecem novas formas de comunicação, mediante discussõe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a:t>
            </a:r>
            <a:r>
              <a:rPr b="0" i="1" lang="pt-BR" sz="1800" spc="-1" strike="noStrike">
                <a:solidFill>
                  <a:srgbClr val="000000"/>
                </a:solidFill>
                <a:latin typeface="Lucida Sans Unicode"/>
              </a:rPr>
              <a:t>chats</a:t>
            </a:r>
            <a:r>
              <a:rPr b="0" lang="pt-BR" sz="1800" spc="-1" strike="noStrike">
                <a:solidFill>
                  <a:srgbClr val="000000"/>
                </a:solidFill>
                <a:latin typeface="Lucida Sans Unicode"/>
              </a:rPr>
              <a:t> síncronos e materiais de ensino baseados na </a:t>
            </a:r>
            <a:r>
              <a:rPr b="0" i="1" lang="pt-BR" sz="1800" spc="-1" strike="noStrike">
                <a:solidFill>
                  <a:srgbClr val="000000"/>
                </a:solidFill>
                <a:latin typeface="Lucida Sans Unicode"/>
              </a:rPr>
              <a:t>Web</a:t>
            </a:r>
            <a:r>
              <a:rPr b="0" lang="pt-BR" sz="1800" spc="-1" strike="noStrike">
                <a:solidFill>
                  <a:srgbClr val="000000"/>
                </a:solidFill>
                <a:latin typeface="Lucida Sans Unicode"/>
              </a:rPr>
              <a:t>. Essas tecnologias relativamente novas juntam-se às ferramentas mais comuns disponíveis aos professores a distância, como os materiais em papel, o vídeo etc.</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89"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ráticas e abordagens atuais</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Lucida Sans Unicode"/>
              </a:rPr>
              <a:t>Definições e contextos:</a:t>
            </a:r>
            <a:endParaRPr b="1" lang="en-US" sz="3000" spc="-1" strike="noStrike">
              <a:solidFill>
                <a:srgbClr val="def5fa"/>
              </a:solidFill>
              <a:latin typeface="Lucida Sans Unicode"/>
            </a:endParaRPr>
          </a:p>
        </p:txBody>
      </p:sp>
      <p:sp>
        <p:nvSpPr>
          <p:cNvPr id="1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definição de tecnologia usada no texto diz respeito às ferramentas usadas na educação de língua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tecnologia tem papel importante na aprendizagem;</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la oferece acesso à informações, pode auxiliar na comunicação e ainda pode ajudar o aprendiz no controle da aprendizagem;</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ntretanto, a implementação da tecnologia é repleta de desafio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ovações em contextos de ensino/aprendizagem é um processo lento;</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s professores precisam dominar as habilidades técnicas antes de descobrirem como implementá-la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professor educador está em uma posição delicada, uma vez que precisa explicitar os benefícios da inovação para o contexto da sala de aula.</a:t>
            </a:r>
            <a:endParaRPr b="0" lang="en-US" sz="18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endParaRPr b="0" lang="en-US" sz="1400" spc="-1" strike="noStrike">
              <a:solidFill>
                <a:srgbClr val="ffffff"/>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28760" y="357120"/>
            <a:ext cx="8229600" cy="5572080"/>
          </a:xfrm>
          <a:prstGeom prst="rect">
            <a:avLst/>
          </a:prstGeom>
          <a:noFill/>
          <a:ln w="0">
            <a:noFill/>
          </a:ln>
        </p:spPr>
        <p:txBody>
          <a:bodyPr anchor="t">
            <a:normAutofit fontScale="99000"/>
          </a:bodyPr>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s vantagens elencadas pelos informantes são:</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possibilidade de espaço igualitári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exposição de professores e alunos a mais “vozes” do que eles podem ouvir em uma interação face-a-face</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existência de um fórum para aprendizado e reflexão colaborativos, e </a:t>
            </a:r>
            <a:r>
              <a:rPr b="0" i="1" lang="pt-BR" sz="1800" spc="-1" strike="noStrike">
                <a:solidFill>
                  <a:srgbClr val="000000"/>
                </a:solidFill>
                <a:latin typeface="Lucida Sans Unicode"/>
              </a:rPr>
              <a:t>feedback </a:t>
            </a:r>
            <a:r>
              <a:rPr b="0" lang="pt-BR" sz="1800" spc="-1" strike="noStrike">
                <a:solidFill>
                  <a:srgbClr val="000000"/>
                </a:solidFill>
                <a:latin typeface="Lucida Sans Unicode"/>
              </a:rPr>
              <a:t>do coleg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possibilidade de gravar as discussões e o aprendizad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flexibilidade para professores e alunos se conectarem no próprio horário, bem como lerem e escreverem no próprio ritm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tempo para os professores elaborarem respostas bem formulada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oportunidade de explorar idéias novas na medida em que surgem, sem as restrições de tempo e espaço da sala de aul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 potencial para formação de uma comunidade de aprendizagem entre aprendizes separados pela distância espacial e cultural, e situados em ambientes profissionais variad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28760" y="1214280"/>
            <a:ext cx="8229600" cy="450072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uitos profissionais e pesquisadores de LTED acreditam que as discussões </a:t>
            </a:r>
            <a:r>
              <a:rPr b="0" i="1" lang="en-US" sz="1800" spc="-1" strike="noStrike">
                <a:solidFill>
                  <a:srgbClr val="000000"/>
                </a:solidFill>
                <a:latin typeface="Lucida Sans Unicode"/>
              </a:rPr>
              <a:t>online </a:t>
            </a:r>
            <a:r>
              <a:rPr b="0" lang="en-US" sz="1800" spc="-1" strike="noStrike">
                <a:solidFill>
                  <a:srgbClr val="000000"/>
                </a:solidFill>
                <a:latin typeface="Lucida Sans Unicode"/>
              </a:rPr>
              <a:t>têm criado um senso de colaboração e comunidade, ao mesmo tempo em que outros duvidam que tais discussões possam resultar em uma significativa comunidade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que mostra total colaboração. Por outro lado, alguns pesquisadores afirmam que as discussões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estimulam o aprendizado ativo e contextual mas não o aprendizado social e reflexiv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Quase não há análise do discurso de tais discussões em LTED</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28760" y="357120"/>
            <a:ext cx="8229600" cy="557208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ambém há pouco estudo sobre a avaliação de discussões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As discussões devem ser avaliadas como parte da avaliação formal por notas de um programa?</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O que deve ser avaliado: domínio de tópico, qualidade de argumentação, facilidade de aprendizado entre o grupo, quantidade de leitura, cumprimento de tarefas, entusiasmo na participação, número de contribuições?</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Como as discussões devem ser avaliad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28760" y="1500120"/>
            <a:ext cx="8229600" cy="45720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s discussõe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são frequentemente vistas como uma importante contribuição a um programa, e os estudantes podem, por isso, querer algum reconhecimento do esforço aplicado nelas. Por outro lado, eles podem considerar o fórum como uma chance para discussões sem se preocupar com not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28760" y="428760"/>
            <a:ext cx="8229600" cy="564336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DESAFIOS DO PROFESSOR E DO ALUNO</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São mencionados como problemas da educação a distância: isolamento, falta de ajuda imediata do colega, altas taxas de desistência, problemas na comunicação, exigências de tempo oneroso para professores e aluno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em-se notado que estudantes a distância têm uma probabilidade maior de estudar meio período. Além disso, muitos aprendizes no campo da formação de professor de línguas chegam à profissão no fim de suas vidas, tendo trabalhado em uma modalidade mais tradicional</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uitos dos envolvidos em LTED rejeitam uma visão partilhada por professores e diretores mais velhos, que vivenciaram somente a interação face-a-face, de que o ensino a distância é mais fácil e economiza tempo e dinheir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28760" y="213840"/>
            <a:ext cx="8229600" cy="5929560"/>
          </a:xfrm>
          <a:prstGeom prst="rect">
            <a:avLst/>
          </a:prstGeom>
          <a:noFill/>
          <a:ln w="0">
            <a:noFill/>
          </a:ln>
        </p:spPr>
        <p:txBody>
          <a:bodyPr anchor="t">
            <a:normAutofit fontScale="97000"/>
          </a:bodyPr>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PRACTICUMS</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	</a:t>
            </a:r>
            <a:r>
              <a:rPr b="1" lang="pt-BR" sz="1800" spc="-1" strike="noStrike">
                <a:solidFill>
                  <a:srgbClr val="000000"/>
                </a:solidFill>
                <a:latin typeface="Lucida Sans Unicode"/>
              </a:rPr>
              <a:t>Definição: curso universitário, frequentemente em um campo especializado de estudo, que fornece aos alunos aplicação prática supervisionada de uma teoria anteriormente ou concomitantemente estudada. O processo se assemelha a um estágio</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guns teóricos afirmam que o contato face-a-face é necessário para os professores em formação desenvolverem habilidades de sala de aula (em oposição a conhecimento teórico). Além disso, estudantes a distância podem enfrentar dificuldades logísticas em organizar </a:t>
            </a:r>
            <a:r>
              <a:rPr b="0" i="1" lang="pt-BR" sz="1800" spc="-1" strike="noStrike">
                <a:solidFill>
                  <a:srgbClr val="000000"/>
                </a:solidFill>
                <a:latin typeface="Lucida Sans Unicode"/>
              </a:rPr>
              <a:t>practicums </a:t>
            </a:r>
            <a:r>
              <a:rPr b="0" lang="pt-BR" sz="1800" spc="-1" strike="noStrike">
                <a:solidFill>
                  <a:srgbClr val="000000"/>
                </a:solidFill>
                <a:latin typeface="Lucida Sans Unicode"/>
              </a:rPr>
              <a:t>observados</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o entanto, vários artigos recentes acreditam nos benefícios da CMC quando estudantes estão espalhados em diferentes lugares de </a:t>
            </a:r>
            <a:r>
              <a:rPr b="0" i="1" lang="pt-BR" sz="1800" spc="-1" strike="noStrike">
                <a:solidFill>
                  <a:srgbClr val="000000"/>
                </a:solidFill>
                <a:latin typeface="Lucida Sans Unicode"/>
              </a:rPr>
              <a:t>practicum</a:t>
            </a:r>
            <a:r>
              <a:rPr b="0" lang="pt-BR" sz="1800" spc="-1" strike="noStrike">
                <a:solidFill>
                  <a:srgbClr val="000000"/>
                </a:solidFill>
                <a:latin typeface="Lucida Sans Unicode"/>
              </a:rPr>
              <a:t>, e desenvolvimentos em ICT significam que à medida que a Internet continua a se expandir, quem tem acesso a ela poderá participar cada vez mais da comunicação mediada que partilha de muitos dos aspectos de contextos face-a-face</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28760" y="499680"/>
            <a:ext cx="8229600" cy="5357880"/>
          </a:xfrm>
          <a:prstGeom prst="rect">
            <a:avLst/>
          </a:prstGeom>
          <a:noFill/>
          <a:ln w="0">
            <a:noFill/>
          </a:ln>
        </p:spPr>
        <p:txBody>
          <a:bodyPr anchor="t">
            <a:normAutofit fontScale="99000"/>
          </a:bodyPr>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PRENDIZAGEM </a:t>
            </a:r>
            <a:r>
              <a:rPr b="1" i="1" lang="pt-BR" sz="1800" spc="-1" strike="noStrike">
                <a:solidFill>
                  <a:srgbClr val="000000"/>
                </a:solidFill>
                <a:latin typeface="Lucida Sans Unicode"/>
              </a:rPr>
              <a:t>IN SITU</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É vantajosa para professores de língua de programas em serviço, que podem continuar a trabalhar na área e usar seu contexto profissional imediato em suas discussões e atribuiçõe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ambém é vantajosa para professores em formação inicial, que podem conduzir seu </a:t>
            </a:r>
            <a:r>
              <a:rPr b="0" i="1" lang="pt-BR" sz="1800" spc="-1" strike="noStrike">
                <a:solidFill>
                  <a:srgbClr val="000000"/>
                </a:solidFill>
                <a:latin typeface="Lucida Sans Unicode"/>
              </a:rPr>
              <a:t>practicum</a:t>
            </a:r>
            <a:r>
              <a:rPr b="0" lang="pt-BR" sz="1800" spc="-1" strike="noStrike">
                <a:solidFill>
                  <a:srgbClr val="000000"/>
                </a:solidFill>
                <a:latin typeface="Lucida Sans Unicode"/>
              </a:rPr>
              <a:t> em um lugar relevante para seu possível local de trabalho, mas distante de sua instituição</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s estudantes podem pesquisar suas questões e as de seus colegas e desenvolver seu conhecimento de maneira imediata, onde estiverem, e aproveitá-las em sua leitura, discussão e trabalho avaliado. Também podem aprender sobre os contextos de ensino de seus colegas e compreender assuntos relacionados ao ensino de estudantes de diferentes idades, línguas nativas, e contextos sociais, educacionais e linguísticos</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28760" y="1214280"/>
            <a:ext cx="8229600" cy="485784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UTONOMIA E INDEPENDÊNCI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literatura frequentemente relaciona o aprendizado a distância com as noções de independência e autonomia. Na verdade, ocorre mais uma interdependência, em que há visões colaborativas e construtivistas de conhecimento e educaçã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visão de Kern, Ware e Warschauer (2004) sobre a pesquisa em aprendizado de língua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sustenta que o que a Internet faz não é ensinar tradicionalmente com nova tecnologia, mas sim ajudar os estudantes a conhecer um novo ambiente de investigação colaborativa e construção de conheciment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28760" y="192888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MATERIAI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preparação de materiais a distância exige maior clareza de pensamento e explicitação do que o ensino face-a-fac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Hall e Knox (2009), o esforço dispensado na preparação no ensino a distância tem facilitado muito a preparação no ensino face-a-face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99"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Questões e direções</a:t>
            </a:r>
            <a:endParaRPr b="0" lang="en-US" sz="3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28760" y="192888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DMINISTRAÇÃO E PESQUIS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Fatores como a quantidade de administração do professor, as exigências sobre os administradores de programa em LTED, e a restrições e inflexibilidade de práticas administrativas de nível superior em muitas instituições podem atrapalhar o desenvolvimento e a direção de programas de LTED</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Lucida Sans Unicode"/>
              </a:rPr>
              <a:t>A tecnologia na formação de professores: O que ensinar?</a:t>
            </a:r>
            <a:endParaRPr b="1" lang="en-US" sz="3100" spc="-1" strike="noStrike">
              <a:solidFill>
                <a:srgbClr val="def5fa"/>
              </a:solidFill>
              <a:latin typeface="Lucida Sans Unicode"/>
            </a:endParaRPr>
          </a:p>
        </p:txBody>
      </p:sp>
      <p:sp>
        <p:nvSpPr>
          <p:cNvPr id="1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Primeiramente, o professore deve dominar o uso de certa tecnologi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Ser capaz de criar materiais e atividades  usando tal tecnologi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ntender como um programa funciona não implica saber utilizá-lo em uma situação de aprendizagem;</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Hubbard e Levy (2006) apontam que os contextos, os papéis institucionais e funcionais determinam o nível de conhecimento que o professor deve apresentar;</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autores salientam que o desenvolvimento do conhecimento referente à aprendizagem de língua mediada por computador (CALL) pode estar relacionado ao nível técnico ou ao nível pedagógico;</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Por exemplo: O conhecimento no nível técnico envolveria entender como o sistema computacional funciona, enquanto o conhecimento no nível pedagógico seria entender como utilizar a tecnologia na prática docente, em benefício do processo de ensino/aprendizagem.</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28760" y="14288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 ESTATUTO DA EDUCAÇÃO A DISTÂNCI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estatuto dos programas a distância ainda é problemático. Em certos países, as qualificações obtidas do ensino de línguas a distância são mais questionáveis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Dada a natureza globalizada da LTED e a necessidade de muitos estudantes de que suas qualificações sejam reconhecidas globalmente, são necessárias investigações sobre a viabilidade de mecanismos internacionais para avaliar a qualidade de program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28760" y="14288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 NECESSIDADE DE UMA BASE DE PESQUISA EXPANDID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Há muitas áreas de LTED que são pouco pesquisadas ou não são pesquisadas. Existe também uma necessidade de: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valiações completas de </a:t>
            </a:r>
            <a:r>
              <a:rPr b="0" i="1" lang="pt-BR" sz="1800" spc="-1" strike="noStrike">
                <a:solidFill>
                  <a:srgbClr val="000000"/>
                </a:solidFill>
                <a:latin typeface="Lucida Sans Unicode"/>
              </a:rPr>
              <a:t>curriculum</a:t>
            </a: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nálises rigorosas de materiais e comunicação em LTED utilizando uma análise do discurso teoricamente fundamentad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pesquisa sobre as instituições particulares de pequena escal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investigação das experiências de aprendizado e das práticas em sala de aula de professores que passaram por programas de LTED</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28760" y="2071440"/>
            <a:ext cx="8229600" cy="34290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 geral, o campo da LTED se beneficiaria se baseasse a literatura atual dominada por estudos de caso da perspectiva do instrutor em pesquisas conduzidas com uma base mais ampla de participantes, lugares e abordagens metodológic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28400" y="500040"/>
            <a:ext cx="8351640" cy="5764320"/>
          </a:xfrm>
          <a:prstGeom prst="rect">
            <a:avLst/>
          </a:prstGeom>
          <a:noFill/>
          <a:ln w="0">
            <a:noFill/>
          </a:ln>
        </p:spPr>
        <p:txBody>
          <a:bodyPr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Lucida Sans Unicode"/>
              </a:rPr>
              <a:t>Formação continuada </a:t>
            </a:r>
            <a:r>
              <a:rPr b="0" i="1" lang="pt-BR" sz="3600" spc="-1" strike="noStrike">
                <a:solidFill>
                  <a:srgbClr val="000000"/>
                </a:solidFill>
                <a:latin typeface="Lucida Sans Unicode"/>
              </a:rPr>
              <a:t>online</a:t>
            </a:r>
            <a:r>
              <a:rPr b="0" lang="pt-BR" sz="3600" spc="-1" strike="noStrike">
                <a:solidFill>
                  <a:srgbClr val="000000"/>
                </a:solidFill>
                <a:latin typeface="Lucida Sans Unicode"/>
              </a:rPr>
              <a:t>  para professores de inglês: uma experiência de integração entre docência, pesquisa e extensão</a:t>
            </a:r>
            <a:endParaRPr b="0" lang="en-US" sz="36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Lucida Sans Unicode"/>
              </a:rPr>
              <a:t>Heloisa Collins</a:t>
            </a: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Raphael Mende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m Estudos Lingü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28760" y="500040"/>
            <a:ext cx="8229600" cy="55008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curso </a:t>
            </a:r>
            <a:r>
              <a:rPr b="0" i="1" lang="pt-BR" sz="1800" spc="-1" strike="noStrike">
                <a:solidFill>
                  <a:srgbClr val="000000"/>
                </a:solidFill>
                <a:latin typeface="Lucida Sans Unicode"/>
              </a:rPr>
              <a:t>Teachers’ Links: Reflexão e Desenvolvimento para Professores de Inglês</a:t>
            </a:r>
            <a:r>
              <a:rPr b="0" lang="pt-BR" sz="1800" spc="-1" strike="noStrike">
                <a:solidFill>
                  <a:srgbClr val="000000"/>
                </a:solidFill>
                <a:latin typeface="Lucida Sans Unicode"/>
              </a:rPr>
              <a:t> tem origem na ação conjunta iniciada em 1995 pelo Programa de Pós-Graduação em Linguística Aplicada e Estudos da Linguagem, da PUC-SP e a Associação Cultura Inglesa São Paulo, para oferecer um programa de educação continuada aos professores de inglês da rede pública do estado de São Paulo, sob a denominação </a:t>
            </a:r>
            <a:r>
              <a:rPr b="0" i="1" lang="pt-BR" sz="1800" spc="-1" strike="noStrike">
                <a:solidFill>
                  <a:srgbClr val="000000"/>
                </a:solidFill>
                <a:latin typeface="Lucida Sans Unicode"/>
              </a:rPr>
              <a:t>Reflexão sobre a Ação: o professor de inglês aprendendo e ensinand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1ª fase (1998 - 2004): sucesso do </a:t>
            </a:r>
            <a:r>
              <a:rPr b="0" i="1" lang="pt-BR" sz="1800" spc="-1" strike="noStrike">
                <a:solidFill>
                  <a:srgbClr val="000000"/>
                </a:solidFill>
                <a:latin typeface="Lucida Sans Unicode"/>
              </a:rPr>
              <a:t>Reflexão sobre a Ação </a:t>
            </a:r>
            <a:r>
              <a:rPr b="0" lang="pt-BR" sz="1800" spc="-1" strike="noStrike">
                <a:solidFill>
                  <a:srgbClr val="000000"/>
                </a:solidFill>
                <a:latin typeface="Lucida Sans Unicode"/>
              </a:rPr>
              <a:t>junto aos professores da cidade de São Paulo e cidades vizinhas e interesse da Associação Cultura Inglesa São Paulo em atender uma demanda de professores do interior por um programa de form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2ª fase (2006 em diante): com uma nova equipe, e após uma profunda revisão de estrutura, carga horária e conteúdos, o curso foi relançado na modalidade Aperfeiçoamento, dirigido a professores de inglês de todos os segmentos </a:t>
            </a: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28760" y="713880"/>
            <a:ext cx="8229600" cy="4286520"/>
          </a:xfrm>
          <a:prstGeom prst="rect">
            <a:avLst/>
          </a:prstGeom>
          <a:noFill/>
          <a:ln w="0">
            <a:noFill/>
          </a:ln>
        </p:spPr>
        <p:txBody>
          <a:bodyPr anchor="t">
            <a:normAutofit fontScale="97000"/>
          </a:bodyPr>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ensino de língua estrangeira tem sido uma área negligenciada na educação brasileira e o tipo de programa de formação de professores oferecido pelas universidades nem sempre colabora para melhorar a situação de isolamento em que se encontram os professores de inglês, frequentemente impedidos por suas condições de trabalho de conversar com seu pares e desenvolver trabalhos conjuntos</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s objetivos centrais do curso vêm exigindo um trabalho aprofundado em torno de um grande leque de temas de pesquisa, que podem ser compreendidos em três grandes domínios teóricos: </a:t>
            </a:r>
            <a:r>
              <a:rPr b="0" i="1" lang="pt-BR" sz="1800" spc="-1" strike="noStrike">
                <a:solidFill>
                  <a:srgbClr val="000000"/>
                </a:solidFill>
                <a:latin typeface="Lucida Sans Unicode"/>
              </a:rPr>
              <a:t>design </a:t>
            </a:r>
            <a:r>
              <a:rPr b="0" lang="pt-BR" sz="1800" spc="-1" strike="noStrike">
                <a:solidFill>
                  <a:srgbClr val="000000"/>
                </a:solidFill>
                <a:latin typeface="Lucida Sans Unicode"/>
              </a:rPr>
              <a:t>de curso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e de materiais em hipermídia para o ensino; mediação em ambientes virtuais de aprendizagem; e interação síncrona e assíncrona e suas funções na aprendizagem</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28760" y="285480"/>
            <a:ext cx="8229600" cy="571500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BJETIVO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ferecer ao professor em formação oportunidade de aperfeiçoamento do seu desempenho em língua inglesa, da sua capacidade de reflexão crítica sobre o seu papel no ensino, da sua capacidade de planejar e organizar sua ação docente e da sua habilidade para usar as tecnologias de informação e comunic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o desenvolvimento de práticas de leitura e escrita em inglês, em ambiente digital, mediante a navegação e o uso de ferramentas ligadas à produção de textos individuais e conjuntos, à comunicação e à colaboração com os pares, com vistas à otimização das possibilidades de formação e manutenção de comunidades de aprendizagem</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uxiliar o professor a desenvolver uma compreensão mais profunda dos processos de aprendizagem do inglês como língua estrangeir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stabelecer junto ao professor as bases teóricas da reflexão como instrumento de transform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o desenvolvimento de estratégias reflexivas que levem os professores a rever seu desenvolvimento profissional e acadêmico, avaliar o desenvolvimento de um planejamento, ampliar a compreensão do papel da língua inglesa no contexto educacional brasileiro, e aprofundar a compreensão dos objetivos e necessidades de aprendizagem de uma língua estrangeira e das habilidades comunicativas envolvidas nesse process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reflexão sobre a sala de aula e os processos de ensino-aprendizagem como objetos de pesquisa acadêmica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reflexão sobre o papel do material didático no ensino de inglê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28760" y="1000080"/>
            <a:ext cx="8229600" cy="4286160"/>
          </a:xfrm>
          <a:prstGeom prst="rect">
            <a:avLst/>
          </a:prstGeom>
          <a:noFill/>
          <a:ln w="0">
            <a:noFill/>
          </a:ln>
        </p:spPr>
        <p:txBody>
          <a:bodyPr anchor="t">
            <a:normAutofit fontScale="95000"/>
          </a:bodyPr>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DESIGN</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a:t>
            </a:r>
            <a:r>
              <a:rPr b="0" i="1" lang="pt-BR" sz="1800" spc="-1" strike="noStrike">
                <a:solidFill>
                  <a:srgbClr val="000000"/>
                </a:solidFill>
                <a:latin typeface="Lucida Sans Unicode"/>
              </a:rPr>
              <a:t>design</a:t>
            </a:r>
            <a:r>
              <a:rPr b="0" lang="pt-BR" sz="1800" spc="-1" strike="noStrike">
                <a:solidFill>
                  <a:srgbClr val="000000"/>
                </a:solidFill>
                <a:latin typeface="Lucida Sans Unicode"/>
              </a:rPr>
              <a:t> do curso acolhe fundamentalmente propostas concebidas especificamente para o contexto </a:t>
            </a:r>
            <a:r>
              <a:rPr b="0" i="1" lang="pt-BR" sz="1800" spc="-1" strike="noStrike">
                <a:solidFill>
                  <a:srgbClr val="000000"/>
                </a:solidFill>
                <a:latin typeface="Lucida Sans Unicode"/>
              </a:rPr>
              <a:t>Web</a:t>
            </a:r>
            <a:r>
              <a:rPr b="0" lang="pt-BR" sz="1800" spc="-1" strike="noStrike">
                <a:solidFill>
                  <a:srgbClr val="000000"/>
                </a:solidFill>
                <a:latin typeface="Lucida Sans Unicode"/>
              </a:rPr>
              <a:t>. Facilita a tomada de decisões porque se apóia em critérios, é dinâmico e prontamente corrigível em seu curso</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atividade de </a:t>
            </a:r>
            <a:r>
              <a:rPr b="0" i="1" lang="pt-BR" sz="1800" spc="-1" strike="noStrike">
                <a:solidFill>
                  <a:srgbClr val="000000"/>
                </a:solidFill>
                <a:latin typeface="Lucida Sans Unicode"/>
              </a:rPr>
              <a:t>design</a:t>
            </a:r>
            <a:r>
              <a:rPr b="0" lang="pt-BR" sz="1800" spc="-1" strike="noStrike">
                <a:solidFill>
                  <a:srgbClr val="000000"/>
                </a:solidFill>
                <a:latin typeface="Lucida Sans Unicode"/>
              </a:rPr>
              <a:t> no </a:t>
            </a:r>
            <a:r>
              <a:rPr b="0" i="1" lang="pt-BR" sz="1800" spc="-1" strike="noStrike">
                <a:solidFill>
                  <a:srgbClr val="000000"/>
                </a:solidFill>
                <a:latin typeface="Lucida Sans Unicode"/>
              </a:rPr>
              <a:t>Teachers’ Links</a:t>
            </a:r>
            <a:r>
              <a:rPr b="0" lang="pt-BR" sz="1800" spc="-1" strike="noStrike">
                <a:solidFill>
                  <a:srgbClr val="000000"/>
                </a:solidFill>
                <a:latin typeface="Lucida Sans Unicode"/>
              </a:rPr>
              <a:t> não partilha da idéia de que os objetivos de aprendizagem devem ser atingidos por todos os alunos por meio do cumprimento ordenado, linear e sistemático de atividades. Ao contrário, acredita que diferentes alunos poderão e deverão atingir seus objetivos de aprendizagem de forma diferente, em ritmos diferentes e, possivelmente, mediante diferentes rotas de atividades, desenvolvendo e exercendo sua autonomia na interação com os materiais e com os outros participantes</a:t>
            </a:r>
            <a:endParaRPr b="0" lang="en-US" sz="1800" spc="-1" strike="noStrike">
              <a:solidFill>
                <a:srgbClr val="ffffff"/>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Como ensinar tecnologia?</a:t>
            </a:r>
            <a:endParaRPr b="1" lang="en-US" sz="2900" spc="-1" strike="noStrike">
              <a:solidFill>
                <a:srgbClr val="def5fa"/>
              </a:solidFill>
              <a:latin typeface="Lucida Sans Unicode"/>
            </a:endParaRPr>
          </a:p>
        </p:txBody>
      </p:sp>
      <p:sp>
        <p:nvSpPr>
          <p:cNvPr id="1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Primeiramente, deve-se determinar as necessidades do professor. Tais necessidades podem ser evidenciadas:</a:t>
            </a:r>
            <a:endParaRPr b="0" lang="en-US" sz="19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separadas                 integrada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formais                     informai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genéricas                  específica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Exemplo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 </a:t>
            </a:r>
            <a:r>
              <a:rPr b="0" lang="pt-BR" sz="1900" spc="-1" strike="noStrike">
                <a:solidFill>
                  <a:srgbClr val="000000"/>
                </a:solidFill>
                <a:latin typeface="Lucida Sans Unicode"/>
              </a:rPr>
              <a:t>separadas                 integradas</a:t>
            </a:r>
            <a:endParaRPr b="0" lang="en-US" sz="19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 curso dedicado apenas ao conhecimento da utilização de tecnologia ofereceria tempo suficiente aos professores para aprenderem as habilidades necessárias;</a:t>
            </a: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ntretanto o sucesso da utilização da tecnologia em sala de aula depende da habilidade do professor para aplicá-la. Em cursos de pré-serviço, modelos satisfatórios apresentaram a combinação de um curso separado e com a integração durante o resto do </a:t>
            </a:r>
            <a:r>
              <a:rPr b="0" i="1" lang="pt-BR" sz="1700" spc="-1" strike="noStrike">
                <a:solidFill>
                  <a:srgbClr val="000000"/>
                </a:solidFill>
                <a:latin typeface="Lucida Sans Unicode"/>
              </a:rPr>
              <a:t>curriculum</a:t>
            </a:r>
            <a:r>
              <a:rPr b="0" lang="pt-BR" sz="1700" spc="-1" strike="noStrike">
                <a:solidFill>
                  <a:srgbClr val="000000"/>
                </a:solidFill>
                <a:latin typeface="Lucida Sans Unicode"/>
              </a:rPr>
              <a:t>;</a:t>
            </a:r>
            <a:endParaRPr b="0" lang="en-US" sz="17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cxnSp>
        <p:nvCxnSpPr>
          <p:cNvPr id="138" name=""/>
          <p:cNvCxnSpPr>
            <a:stCxn id="137" idx="1"/>
            <a:endCxn id="137" idx="1"/>
          </p:cNvCxnSpPr>
          <p:nvPr/>
        </p:nvCxnSpPr>
        <p:spPr>
          <a:xfrm>
            <a:off x="456840" y="3744720"/>
            <a:ext cx="1080" cy="1080"/>
          </a:xfrm>
          <a:prstGeom prst="straightConnector1">
            <a:avLst/>
          </a:prstGeom>
          <a:ln w="9360">
            <a:solidFill>
              <a:srgbClr val="ffffff"/>
            </a:solidFill>
            <a:miter/>
          </a:ln>
        </p:spPr>
      </p:cxnSp>
      <p:sp>
        <p:nvSpPr>
          <p:cNvPr id="139" name=""/>
          <p:cNvSpPr/>
          <p:nvPr/>
        </p:nvSpPr>
        <p:spPr>
          <a:xfrm>
            <a:off x="4067280" y="2421000"/>
            <a:ext cx="100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995640" y="2708280"/>
            <a:ext cx="107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995640" y="2997360"/>
            <a:ext cx="115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211640" y="38606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MEDI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fazer uma mediação bem-sucedida, o professor necessita ter clareza da sua intencionalidade e focalizar os aspectos cognitivos, mas também os aspectos afetivos, sociais e culturais no processo de aprendizagem. A mediação pedagógica exige do professor abertura para aprender, flexibilidade, postura reflexiva para rever constantemente a sua prática, criticidade e autonomia para acompanhar o alun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gumas estratégias eficientes de planejamento para desenvolver mediação e colaboração são: formular um objetivo comum para aprendizagem; socializar apresentações pessoais e expectativas; elaborar tarefas relacionadas a situações do cotidiano; dividir a responsabilidade pela mediação mediante revezamento de papéis; compartilhar recurso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mediação eficiente deve ser frequente e sistemática, promovendo assim maior engajamento dos alunos. Deve também ser organizadora e orientadora, para garantir ao aluno segurança para desempenho das ações digitais. Quanto à sua função avaliativa, funciona melhor se destaca as qualidades das contribuições publicamente e convida à leitura. Para construir sentidos durante as discussões, dev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pontar imprecisões conceituais específicas e encaminhar perguntas específicas, relacionadas aos objetivos pedagógicos da atividade em pauta;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rganizar e sintetizar a discussão à medida que ela acontece;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identificar convergências e divergências de posições; 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convidar à discussão, remetendo às contribuições dos demais participante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28760" y="114300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ambém há clareza quanto à mediação ineficaz: é descontextualizada, superficial, conclusiva, centralizadora e/ou infantilizador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iada a um </a:t>
            </a:r>
            <a:r>
              <a:rPr b="0" i="1" lang="pt-BR" sz="1800" spc="-1" strike="noStrike">
                <a:solidFill>
                  <a:srgbClr val="000000"/>
                </a:solidFill>
                <a:latin typeface="Lucida Sans Unicode"/>
              </a:rPr>
              <a:t>web design</a:t>
            </a:r>
            <a:r>
              <a:rPr b="0" lang="pt-BR" sz="1800" spc="-1" strike="noStrike">
                <a:solidFill>
                  <a:srgbClr val="000000"/>
                </a:solidFill>
                <a:latin typeface="Lucida Sans Unicode"/>
              </a:rPr>
              <a:t> claro e a um </a:t>
            </a:r>
            <a:r>
              <a:rPr b="0" i="1" lang="pt-BR" sz="1800" spc="-1" strike="noStrike">
                <a:solidFill>
                  <a:srgbClr val="000000"/>
                </a:solidFill>
                <a:latin typeface="Lucida Sans Unicode"/>
              </a:rPr>
              <a:t>design </a:t>
            </a:r>
            <a:r>
              <a:rPr b="0" lang="pt-BR" sz="1800" spc="-1" strike="noStrike">
                <a:solidFill>
                  <a:srgbClr val="000000"/>
                </a:solidFill>
                <a:latin typeface="Lucida Sans Unicode"/>
              </a:rPr>
              <a:t>instrucional adequado aos objetivos de ensino-aprendizagem, a mediação pedagógica eficiente é fundamental para afastar a educação a distância de uma concepção alinhada com os sistemas tradicionais de ensino baseados na transmissão da informação e no simples cumprimento de tarefa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28760" y="356760"/>
            <a:ext cx="8229600" cy="571500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INTER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o </a:t>
            </a:r>
            <a:r>
              <a:rPr b="0" i="1" lang="pt-BR" sz="1800" spc="-1" strike="noStrike">
                <a:solidFill>
                  <a:srgbClr val="000000"/>
                </a:solidFill>
                <a:latin typeface="Lucida Sans Unicode"/>
              </a:rPr>
              <a:t>Teachers’ Links </a:t>
            </a:r>
            <a:r>
              <a:rPr b="0" lang="pt-BR" sz="1800" spc="-1" strike="noStrike">
                <a:solidFill>
                  <a:srgbClr val="000000"/>
                </a:solidFill>
                <a:latin typeface="Lucida Sans Unicode"/>
              </a:rPr>
              <a:t>há uma relação conceitual estreita entre interação e reflexão crític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Garrison et al (2000) e Anderson et al (1998 e 2001) salientam que um dos caminhos fundamentais para o desenvolvimento da qualidade da educação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é a formação de comunidades críticas, reflexivas e colaborativas de aprendizagem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Garrison et al (2003), as novas tecnologias oferecem a possibilidade de desenvolvimento tanto da reflexão individual quanto da colaborativa, já que elas estabelecem conexão entre as pessoas de uma comunidade de investig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rês elementos são fundamentais para que uma comunidade de investigação se estabeleça: a presença social, a cognitiva e a de ensin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28760" y="5000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STRUTURA DE FUNCIONAMENT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interação entre todos os participantes e a mediação do professor são parte fundamental no curs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á forte mediação do professor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diante um cuidadoso e sistemático programa de ensino e exemplificação do tipo de participação esperada, os professores-alunos devem se fazer presentes durante as sessões discussão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a:t>
            </a:r>
            <a:r>
              <a:rPr b="0" i="1" lang="en-US" sz="1800" spc="-1" strike="noStrike">
                <a:solidFill>
                  <a:srgbClr val="000000"/>
                </a:solidFill>
                <a:latin typeface="Lucida Sans Unicode"/>
              </a:rPr>
              <a:t> </a:t>
            </a:r>
            <a:r>
              <a:rPr b="0" lang="en-US" sz="1800" spc="-1" strike="noStrike">
                <a:solidFill>
                  <a:srgbClr val="000000"/>
                </a:solidFill>
                <a:latin typeface="Lucida Sans Unicode"/>
              </a:rPr>
              <a:t>tanto do ponto de vista social quanto do ponto de vista de suas atividades acadêmicas. Por meio de tal participação, desenvolvem algumas habilidades previstas no curso, exercitando diferentes maneiras de refletir criticamente sobre as questões propostas e colaborando para a formação de uma comunidade de investig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fontScale="97000"/>
          </a:bodyPr>
          <a:p>
            <a:pPr marL="353880" indent="-2476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Exemplos:</a:t>
            </a: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formais                     informais</a:t>
            </a:r>
            <a:endParaRPr b="0" lang="en-US" sz="1700" spc="-1" strike="noStrike">
              <a:solidFill>
                <a:srgbClr val="ffffff"/>
              </a:solidFill>
              <a:latin typeface="Lucida Sans Unicode"/>
            </a:endParaRPr>
          </a:p>
          <a:p>
            <a:pPr marL="353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Muitos professores aprendem utilizar a tecnologia de maneira informal, geralmente com a ajuda de outros colegas. Entretanto, para alguns, a aprendizagem formal leva a resultados mais consistentes. Para Hanson-Smith (2006) o sucesso do uso da aprendizagem informal estaria aliado às comunidades de práticas, que ofereceriam suporte ao professor. </a:t>
            </a:r>
            <a:endParaRPr b="0" lang="en-US" sz="1500" spc="-1" strike="noStrike">
              <a:solidFill>
                <a:srgbClr val="ffffff"/>
              </a:solidFill>
              <a:latin typeface="Lucida Sans Unicode"/>
            </a:endParaRPr>
          </a:p>
          <a:p>
            <a:pPr marL="35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genéricas                  específicas</a:t>
            </a:r>
            <a:endParaRPr b="0" lang="en-US" sz="17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s abordagens genéricas tem como objetivo ajudar professores com conhecimentos básicos;</a:t>
            </a: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s abordagens específicas tem como objetivo auxiliar os professores na domínio de um certo programa.</a:t>
            </a: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Ensinar como utilizar um grande números de programas específicos pode ser mais rápido, entretanto um treinamento adicional pode ser necessário.</a:t>
            </a:r>
            <a:endParaRPr b="0" lang="en-US" sz="1500" spc="-1" strike="noStrike">
              <a:solidFill>
                <a:srgbClr val="ffffff"/>
              </a:solidFill>
              <a:latin typeface="Lucida Sans Unicode"/>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a:t>
            </a:r>
            <a:endParaRPr b="0" lang="en-US" sz="1300" spc="-1" strike="noStrike">
              <a:solidFill>
                <a:srgbClr val="ffffff"/>
              </a:solidFill>
              <a:latin typeface="Lucida Sans Unicode"/>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a:t>
            </a:r>
            <a:endParaRPr b="0" lang="en-US" sz="1300" spc="-1" strike="noStrike">
              <a:solidFill>
                <a:srgbClr val="ffffff"/>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p:txBody>
      </p:sp>
      <p:sp>
        <p:nvSpPr>
          <p:cNvPr id="144" name=""/>
          <p:cNvSpPr/>
          <p:nvPr/>
        </p:nvSpPr>
        <p:spPr>
          <a:xfrm>
            <a:off x="1187280" y="404640"/>
            <a:ext cx="684072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Como ensinar tecnologia?</a:t>
            </a:r>
            <a:endParaRPr b="0" lang="en-US" sz="3300" spc="-1" strike="noStrike">
              <a:solidFill>
                <a:srgbClr val="ffffff"/>
              </a:solidFill>
              <a:latin typeface="Arial"/>
            </a:endParaRPr>
          </a:p>
        </p:txBody>
      </p:sp>
      <p:sp>
        <p:nvSpPr>
          <p:cNvPr id="145" name=""/>
          <p:cNvSpPr/>
          <p:nvPr/>
        </p:nvSpPr>
        <p:spPr>
          <a:xfrm>
            <a:off x="4140360" y="1916280"/>
            <a:ext cx="71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211640" y="400536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468360" y="1268280"/>
          <a:ext cx="8229600" cy="4575240"/>
        </p:xfrm>
        <a:graphic>
          <a:graphicData uri="http://schemas.openxmlformats.org/drawingml/2006/table">
            <a:tbl>
              <a:tblPr/>
              <a:tblGrid>
                <a:gridCol w="1608120"/>
                <a:gridCol w="6621480"/>
              </a:tblGrid>
              <a:tr h="403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a9a2c"/>
                    </a:solidFill>
                  </a:tcPr>
                </a:tc>
                <a:tc>
                  <a: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ação da tecnologia em todos os curs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8604a0">
                        <a:alpha val="50000"/>
                      </a:srgbClr>
                    </a:solidFill>
                  </a:tcPr>
                </a:tc>
              </a:tr>
              <a:tr h="411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tilização de multimídias como cursos online e portfóli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674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o na educação de professores em pré-serviç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lementação de um curso de tecnologia simpl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88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os de como utilizar a tecnologi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7030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cesso de colaboração entre professores em pré-serviço, professores mediador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ática da tecnologi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403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erecimento de mini-workshop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419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erfeiçoamento de acesso a software, hardwar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o nos professores mediador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8604a0">
                        <a:alpha val="50000"/>
                      </a:srgbClr>
                    </a:solidFill>
                  </a:tcPr>
                </a:tc>
              </a:tr>
            </a:tbl>
          </a:graphicData>
        </a:graphic>
      </p:graphicFrame>
      <p:sp>
        <p:nvSpPr>
          <p:cNvPr id="148" name=""/>
          <p:cNvSpPr/>
          <p:nvPr/>
        </p:nvSpPr>
        <p:spPr>
          <a:xfrm>
            <a:off x="395280" y="260280"/>
            <a:ext cx="8137440" cy="112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Kay (2006) analisou 68 estudos de curso de tecnologia para  professores  em pré-serviço dos Estados Unidos apontou quais os tipos de abordagens mais utilizadas: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7"/>
                                        </p:tgtEl>
                                        <p:attrNameLst>
                                          <p:attrName>style.visibility</p:attrName>
                                        </p:attrNameLst>
                                      </p:cBhvr>
                                      <p:to>
                                        <p:strVal val="visible"/>
                                      </p:to>
                                    </p:set>
                                    <p:animEffect filter="wipe(left)" transition="in">
                                      <p:cBhvr additive="repl">
                                        <p:cTn id="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Um meio de integrar a tecnologia na formação de professores</a:t>
            </a:r>
            <a:endParaRPr b="1" lang="en-US" sz="3300" spc="-1" strike="noStrike">
              <a:solidFill>
                <a:srgbClr val="def5fa"/>
              </a:solidFill>
              <a:latin typeface="Lucida Sans Unicode"/>
            </a:endParaRPr>
          </a:p>
        </p:txBody>
      </p:sp>
      <p:sp>
        <p:nvSpPr>
          <p:cNvPr id="15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Deve haver infraestrutura pedagógica e infraestrutura institucional; </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Deve analisar as necessidades dos professores;</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Selecionar quais os métodos devem ser empregados;</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Chega então aos padrões, às normas.</a:t>
            </a:r>
            <a:endParaRPr b="0" lang="en-US" sz="20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Discussões e Direções</a:t>
            </a:r>
            <a:endParaRPr b="1" lang="en-US" sz="3300" spc="-1" strike="noStrike">
              <a:solidFill>
                <a:srgbClr val="def5fa"/>
              </a:solidFill>
              <a:latin typeface="Lucida Sans Unicode"/>
            </a:endParaRPr>
          </a:p>
        </p:txBody>
      </p:sp>
      <p:sp>
        <p:nvSpPr>
          <p:cNvPr id="1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s professores que dominam a tecnologia devem ensinar e incentivar outros;</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uitos professores não confiam no seu conhecimento digital;</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guns não utilizam a tecnologia por restrições administrativas;</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 uso da tecnologia nas salas de aulas, futuramente,será mais facilitado;</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s professores terão mais um desafio: ajudar os alunos a lidarem com o aumento do controle e da independência da tecnologia.</a:t>
            </a:r>
            <a:endParaRPr b="0" lang="en-US" sz="2100" spc="-1" strike="noStrike">
              <a:solidFill>
                <a:srgbClr val="ffffff"/>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03:08:20Z</dcterms:created>
  <dc:creator>Cleriston</dc:creator>
  <dc:description/>
  <dc:language>en-US</dc:language>
  <cp:lastModifiedBy>Jaqueline</cp:lastModifiedBy>
  <dcterms:modified xsi:type="dcterms:W3CDTF">2010-06-22T19:26:24Z</dcterms:modified>
  <cp:revision>69</cp:revision>
  <dc:subject/>
  <dc:title>A CLASSIFICAÇÃO SEMÂNTICA DOS SUBSTANTIVOS EM LIVROS DIDÁTICOS</dc:title>
</cp:coreProperties>
</file>